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4E88-6EE0-4431-BF50-B9ADFC97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FE3F-1D69-42FE-92D0-CF0DC306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E063-7872-4038-95B0-97AB801E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70DA-6B03-4296-8F9C-38C0DBE2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092C-8774-47AC-80B0-14C7BE95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B661-B2A6-4BB9-BE62-5C5867E8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204A-7673-41D8-B2F3-71290F1C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0CC1-E0D7-4FDB-99EE-9972B839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64EE-40FA-4769-A963-E823259C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135B-4FF6-4E81-8A2D-32E575FF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7614-6381-46B8-B0CD-F6D0B8A7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BDF1E-16C6-4F34-A4F7-64BD2436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078C-01D0-4FEB-9128-D8928999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D826-A687-4882-A343-4D5C5462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D4C0-3F27-492E-8AC1-12966F7F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6415-FFAA-4934-B84D-DB74E5EC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89EC-2A59-4083-A5D2-A662AE45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A6E0-CFC6-46F7-B35E-B8E6EFCD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344E-745E-49D5-8E5F-827133B9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D093F-9031-4CA7-83E1-76C09E0E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E629-599C-4529-ACA8-5709AA49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84726-F049-46A1-951D-308FC47E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F5E8-1C2A-49AA-9BEA-F7159483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ABE9A-0E1D-45C7-B84F-92230DEA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4919-2445-4CB2-B351-5FD3C846272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0043-8B07-4155-AE72-6578E1B015F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63640" y="1125360"/>
            <a:ext cx="5181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Александр Сергеевич Пушкин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(1799-1837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4076280"/>
            <a:ext cx="540072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ве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Пиковая Дама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833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56360" y="3573360"/>
            <a:ext cx="2703600" cy="288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9592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cc"/>
                </a:solidFill>
                <a:latin typeface="Tahoma"/>
              </a:rPr>
              <a:t>Германн сошел с ума…</a:t>
            </a:r>
            <a:br>
              <a:rPr sz="2100"/>
            </a:br>
            <a:r>
              <a:rPr b="1" lang="ru-RU" sz="2100" spc="-1" strike="noStrike">
                <a:solidFill>
                  <a:srgbClr val="ffffcc"/>
                </a:solidFill>
                <a:latin typeface="Tahoma"/>
              </a:rPr>
              <a:t>Он находится в Обуховской больнице в 17 нумере, не отвечает ни на какие вопросы и бормочет необыкновенно скоро: </a:t>
            </a:r>
            <a:br>
              <a:rPr sz="2100"/>
            </a:br>
            <a:r>
              <a:rPr b="1" lang="ru-RU" sz="2100" spc="-1" strike="noStrike">
                <a:solidFill>
                  <a:srgbClr val="ffffcc"/>
                </a:solidFill>
                <a:latin typeface="Tahoma"/>
              </a:rPr>
              <a:t>«Тройка, семёрка, туз! Тройка, семёрка, дама!»</a:t>
            </a:r>
            <a:endParaRPr b="0" lang="en-US" sz="2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784600" cy="424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084720" y="1844640"/>
            <a:ext cx="2873520" cy="410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9640" y="621648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Что приводит Германна к трагическому финалу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4000" y="3284640"/>
            <a:ext cx="20876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026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46152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Тема: «Все ставки жизни проиграл…»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1700280"/>
            <a:ext cx="50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жизни нет ничего такого, за что бы можно было отдать нечистому хотя бы малую часть своей души.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278160" cy="460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588000" y="3860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.П. Чех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стория создания повест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879640" cy="2378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00720" y="1341360"/>
            <a:ext cx="43480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Анализ повест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ерманн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2205000"/>
            <a:ext cx="19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 се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21337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ом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249228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вто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834920" y="1413000"/>
            <a:ext cx="1439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1557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6000" y="1413000"/>
            <a:ext cx="12970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141720"/>
            <a:ext cx="244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 в состоянии жертвовать необходим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95640" y="3156120"/>
            <a:ext cx="45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2708280"/>
            <a:ext cx="302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мец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счётли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59480" y="335772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ын обрусевшего нем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4360" y="3933720"/>
            <a:ext cx="197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крыт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Честолюби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03640" y="3933720"/>
            <a:ext cx="20145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ильные стр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гненное вообра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10200" y="5373720"/>
            <a:ext cx="40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тиворечивость харак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38560" y="616572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Но! Твердость спас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33336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aa68"/>
                </a:solidFill>
                <a:latin typeface="Tahoma"/>
              </a:rPr>
              <a:t>Цель жизни Германн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2924280"/>
            <a:ext cx="345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До анекдо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сч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мерен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рудолюб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2852640"/>
            <a:ext cx="39625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После анекдо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знать тайну старух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ри верные кар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Низкие способы дости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23493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Два способ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341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кой и независим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Три злодейст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177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тив Ли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77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тив графи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3640" y="162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тив себ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476360" y="1197000"/>
            <a:ext cx="792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1125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1125360"/>
            <a:ext cx="647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77080" y="5373720"/>
            <a:ext cx="1081080" cy="104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187280" y="5373720"/>
            <a:ext cx="938520" cy="1224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940360" y="5373720"/>
            <a:ext cx="881280" cy="1079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79280" y="5373720"/>
            <a:ext cx="903240" cy="1222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500720" y="5373720"/>
            <a:ext cx="83952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2484360" y="5373720"/>
            <a:ext cx="878040" cy="1152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419640" y="5373720"/>
            <a:ext cx="1055520" cy="1079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79280" y="2276640"/>
            <a:ext cx="2521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тив любв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«Богом клянус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«Почитающая бога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ПОГУБИЛ ЛЮБОВ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2565360"/>
            <a:ext cx="1726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мерть старухи-графин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ПОГУБИЛ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11640" y="1916280"/>
            <a:ext cx="40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отов заключить сделку с дьявол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орьба добра и зла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40360" y="299736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3 условия – путь к спасению души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.Не ставить более одной карты в сут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.Не играть после всю жиз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.Жениться на Лизавете Иванов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436572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ПОГУБИЛ ДУШ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ыводы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1844640"/>
            <a:ext cx="78483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ЧЕМУ ПРОИГРАЛ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2781360"/>
            <a:ext cx="874872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Погубил любовь  2.Погубил жизнь    3.Погубил душ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ТОГ ЖИЗНИ – больница для душевнобольны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ВЫВОД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НЕ ПЕРЕСТУПАТЬ ЕВАНГЕЛЬСКИЕ ЗАПОВЕДИ!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ВСЕГДА ОСТАВАТЬСЯ ЧЕЛОВЕКО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7164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162864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3640" y="14130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дёрнулся» - проигр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59026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78136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писать сочинение-миниатюру на тем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«Почему Германн проиграл?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05:15:24Z</dcterms:created>
  <dc:creator>School_admin</dc:creator>
  <dc:description/>
  <dc:language>en-US</dc:language>
  <cp:lastModifiedBy>Olga</cp:lastModifiedBy>
  <dcterms:modified xsi:type="dcterms:W3CDTF">2009-12-27T11:59:41Z</dcterms:modified>
  <cp:revision>42</cp:revision>
  <dc:subject/>
  <dc:title>Слайд 1</dc:title>
</cp:coreProperties>
</file>